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252-6032-4566-A83E-1DB5354D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A4C-46AB-4496-A4ED-83B41D13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A27-9868-4A4F-8C4F-B5315743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07C6-D7F4-4DF5-BBC7-77AE9E38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8E2-8135-4690-A385-C9BB625E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0F6-122E-4B33-ACF9-6C8F37C8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603-773E-40DA-B6ED-65C8DBBD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1958-FD94-41F8-9F19-C2FCBF83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046-7914-438B-816F-58DA4263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8E21-CE3A-4637-8629-8C0EF8C1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7D91-24DF-4316-927D-DD83BC41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BBA-3017-4019-BE5D-1D99EFE9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DFBEEB72-4651-4E2D-BC97-A18F77BD31EF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esentation Title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sentation subtit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Your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Your title, 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ine for your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topic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topic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BB11-873A-4080-8245-4F1EBFE571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EXPReS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= Express Production Real-time e-VLBI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year project, started March 2006, funded by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to create a distributed, large-scale astronomical instrument of continental and inter-continental dim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: high-speed communication networks operating in real-time and connecting some of the largest and most sensitive radio telescopes on the pl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E464-168B-479F-A456-A44D593A0F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Partn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dio Astronomy Instit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int Institute for VLBI in Europe (Coordinator)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cibo Observatory, National Astronomy and Ionosphere Center, Cornell University,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stralia Telescope National Facility, a Division of CSIRO, Austr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itute of Radioastronomy, National Institute for Astrophysics (INAF), Ita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drell Bank Observatory, University of Manchester, United King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Planck Institute for Radio Astronomy (MPIfR), Ger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sähovi Radio Observatory, Helsinki University of Technology (TKK), Fin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tional Center of Geographical Information, National Geographic Institute (CNIG-IGN), Sp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rtebeesthoek Radio Astronomy Observatory, National Research Foundation, South Af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herlands Foundation for Research in Astronomy (ASTRON), NWO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sala Space Observatory, Chalmers University of Technology, Swe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nghai Astronomical Observatory, Chinese Academy of Sciences, Ch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run Centre for Astronomy, Nicolaus Copernicus University, Po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ortable Integrated Geodetic Observatory (TIGO), University of Concepción,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ntspils International Radio Astronomy Center, Ventspils University College, Lat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tional Research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ARNet, Austr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NTE, United King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znan Supercomputing and Networking Center, Po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RFnet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AA4E-0B41-457E-92E9-C596983AE6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rticipating EXPReS Telescop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496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47B1-4014-4210-81F2-639AD541C22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Network Diagram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1068480"/>
            <a:ext cx="7696440" cy="50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2785-3EBE-4AF8-B284-B9BC575BD3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tiviti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crip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Coordinat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ib Jan van Langevelde (Interim)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of I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 Charles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N-NREN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hevers, 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LBI Science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onway, Chal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Outrea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ristine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 Servi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ad Szomoru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Provision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cisco Colomer, CNIG-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R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R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ib Jan van Langevelde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667-2577-495C-9FDA-5858E06321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estions/Answ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your na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your titl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(J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you] at jive dot 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expres-eu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ote: only one “s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ive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DB9-560B-4D88-8942-0A92257EA6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Kristine Yun</cp:lastModifiedBy>
  <dcterms:modified xsi:type="dcterms:W3CDTF">2008-07-10T09:39:54Z</dcterms:modified>
  <cp:revision>26</cp:revision>
  <dc:subject/>
  <dc:title>Slide 1</dc:title>
</cp:coreProperties>
</file>